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B92-C8D0-48DF-B3BB-729CB0DA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17D-A0B9-43C7-8684-5B2D8D37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EF3-8650-45BD-9738-E2F5F844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03A-3976-4565-BCA5-18F09863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5DA8-385F-4D1D-81CB-6D3B63CD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B3B-B9FE-4C7F-B0E0-A6F3403B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8CA4-D406-4AD4-8FC8-B64E269B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545A-C8A8-4EFC-AC5E-31B757E4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7FF0-D4EF-4917-88FD-01590571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9EF9-E6AD-463E-9BF4-331217A8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B943-A7AD-4950-9303-16AA3E8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F9D-E04A-477E-8510-8D34BA5B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3C4A-1A8C-4155-84AB-9C59E64C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4DEE-4EE1-4881-8EDA-BF27AB0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1414-C6D3-4E56-A839-3E6BA73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BBB-52C0-4061-A0C4-0E4E14F7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C4D0-8390-4071-8009-A272FCF0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180E-C420-499E-81EA-CE91CFA4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F5CA-A867-4F7E-A8CC-26854A54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3CE8-8D80-432D-8193-AC34419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B330-05B4-400D-BC10-2887372D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62E9-12C7-44B5-8946-C83BE0A4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696-F932-4F27-B68A-6B8BE1C4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D6D8-B47A-48C6-80EB-6585D1D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AC71-953E-4B41-A626-CF84C25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4C98-D2A8-4E69-9C82-F1DEE06C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8CE8-D8FE-4391-A98B-1B5C96BF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FFBD-0D84-4A75-968D-015E83C1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8F9E-8E82-4B59-AD36-2CB9A0A0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8F0A-08DC-4D46-BAB1-B8C50879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AA3C-705F-462D-A8E5-D3F05001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3F48-03B3-49A3-B16D-7F983ACC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A915-B5ED-4AEA-9DD5-2FEB5F2C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3BB-07AE-40D7-8021-E2DAE76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D269-933A-4A09-9953-8B2E3B1F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1C05-7AED-4346-BDE8-17B6F940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1056-F92D-43DA-8774-3C3BD16D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FB02-6AF1-4C8A-AECC-1AC7D8FD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5A59-4E54-4C8A-98C1-FC87FB1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3C3F-E656-42D8-9D5A-C394314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D6B0-003F-4CE0-9092-0A88B50F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5E0A-0578-4DA9-BBA1-9C1C20EA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ACA7-067F-48B5-826B-0C6E5FC1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1C77-777F-4627-A018-E1F0923A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ACD-3ED9-42E2-894F-6E076BFB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7B266-2B1C-45A7-A6FB-81A6C4DE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F122-C51E-4AE4-A71F-FEB8421F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4CBE-014A-4DDE-803D-6A952C96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24BD-ACEE-4AD7-9F48-B98BECE2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DB02-8C53-4B7B-A91F-D790753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50E41-94DE-4A85-A0F3-FCA7A7B3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F580A-8858-4893-BD7C-48EEA9E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9857-0528-4506-A27E-35144FB2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52687-919D-445B-9840-3C509E32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E99B5-AF2A-4BC4-BB3C-C5FCB428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3AD-B916-4D9C-91E1-1649B16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2218F-D5BA-4430-9ADC-7AEFAD0F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97277-D3C9-4026-AEFD-A87AA89B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E8191-3CA0-44AE-A5E1-22AEFD8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0B52D-D0C3-4698-AA4A-E6D00B7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BCD53-5426-438E-B028-51FF061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05781-4C72-4463-8A89-8686DA5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8ABF-FEE6-4C5A-963D-06AB7FE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A642-AE58-45D1-A1DB-5D3A3449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9F89-74B7-4D2F-A662-F438E741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84AA-5D1C-4FD7-89EE-EF0E980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122-AA90-416B-8C9F-CDA555D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FED7-F5EB-43B5-93F0-9B89784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59BB6-F14C-41C6-B161-C0905583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68465-EF14-4A8C-B0B3-039E1D8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093C1-5B14-4D48-856C-D9A04C97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CC3E9-FA0A-4014-8244-B17087D2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05B2-9E80-4645-9DEE-CD46B0F1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F1ECE-D1DA-4811-9B62-615CF2AC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E50AA-3BA9-47FB-A407-28BBFD60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9E6F1-6C84-41B8-9CC1-4BDD730F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68EB9-680B-40FF-A9AB-6734B56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7C0-42CC-4B7F-9B8C-215A416B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FE36-7F42-430D-93AE-D18FECB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B8F38-6FAF-4467-B7CD-4FEFBA46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FCBAD-C679-4A1D-946C-5AECBBD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BF06-0952-4419-8DA3-392B39F1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DCB2-C74F-4624-9564-5ACF44F6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A8F-D920-4C43-A943-BD29AFD6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20BF-76D0-4FAA-A4EA-18A1A7AE729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25360" cy="219240"/>
            <a:chOff x="914400" y="1407960"/>
            <a:chExt cx="225360" cy="2192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F796-3644-458D-86D9-C96ED8342CB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4"/>
          <p:cNvGrpSpPr/>
          <p:nvPr/>
        </p:nvGrpSpPr>
        <p:grpSpPr>
          <a:xfrm>
            <a:off x="2163600" y="2809800"/>
            <a:ext cx="225720" cy="219240"/>
            <a:chOff x="2163600" y="2809800"/>
            <a:chExt cx="225720" cy="219240"/>
          </a:xfrm>
        </p:grpSpPr>
        <p:pic>
          <p:nvPicPr>
            <p:cNvPr id="103" name="Oval 1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57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DC77-34CC-4418-947B-B11C35B9AD2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6575-4B2A-413A-8B7D-FCA54CD695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445F-E313-4B58-9ED2-D6B2CF8D00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936E-48AF-46E7-A9E8-A98B82335A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D28-6DE1-45C0-A067-93BFEBFCE8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eanvideosearch.com/media/action/yt/watch?v=kdz9VGH8dwY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leO28ydyfU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19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95280" y="1341000"/>
            <a:ext cx="7391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do many scientists classify viruses as non-liv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raw the basic structure of a virus. Label and define capsid, viral envelope and nucleic aci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28240"/>
            <a:ext cx="74995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Simplified viral replicative cycl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Picture 2" descr="19_04ViralReproCycle-L.jpg"/>
          <p:cNvPicPr/>
          <p:nvPr/>
        </p:nvPicPr>
        <p:blipFill>
          <a:blip r:embed="rId1"/>
          <a:stretch/>
        </p:blipFill>
        <p:spPr>
          <a:xfrm>
            <a:off x="1981080" y="1143000"/>
            <a:ext cx="60213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terioph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us that infects bacterial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3" descr="19_03dViralStructure-L.jpg"/>
          <p:cNvPicPr/>
          <p:nvPr/>
        </p:nvPicPr>
        <p:blipFill>
          <a:blip r:embed="rId1"/>
          <a:stretch/>
        </p:blipFill>
        <p:spPr>
          <a:xfrm>
            <a:off x="1676520" y="2362320"/>
            <a:ext cx="2950920" cy="4114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http://blog.labplanet.com/wp-content/uploads/2011/11/Bacteriophage-300x288.jpg"/>
          <p:cNvPicPr/>
          <p:nvPr/>
        </p:nvPicPr>
        <p:blipFill>
          <a:blip r:embed="rId2"/>
          <a:stretch/>
        </p:blipFill>
        <p:spPr>
          <a:xfrm>
            <a:off x="5181480" y="2414520"/>
            <a:ext cx="3200400" cy="307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Video: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t4 Phage infe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19_05T4LyticCycle_5-L.jpg"/>
          <p:cNvPicPr/>
          <p:nvPr/>
        </p:nvPicPr>
        <p:blipFill>
          <a:blip r:embed="rId1"/>
          <a:stretch/>
        </p:blipFill>
        <p:spPr>
          <a:xfrm>
            <a:off x="298440" y="255600"/>
            <a:ext cx="8547120" cy="63468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228600" y="3697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tic Cycle of T4 P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teriophage Rep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21896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Lytic Cycl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host machinery to make copies of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ath of host cell by rupturing it (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lysi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ulent phages replicate by this meth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Lysogenic Cycl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age DNA incorporated into host DNA and replicated along wit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age DNA =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Gill Sans MT"/>
              </a:rPr>
              <a:t>proph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Gill Sans MT"/>
              </a:rPr>
              <a:t>Temperate Ph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uses both methods of repl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497720" cy="8380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ytic Cycle vs. Lysogenic Cyc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6" name="Picture 4" descr="19_06_LambdaLyticLysoCyc-L.jpg"/>
          <p:cNvPicPr/>
          <p:nvPr/>
        </p:nvPicPr>
        <p:blipFill>
          <a:blip r:embed="rId1"/>
          <a:stretch/>
        </p:blipFill>
        <p:spPr>
          <a:xfrm>
            <a:off x="39600" y="1295280"/>
            <a:ext cx="90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19_07EnvRNAVirusLifeCyc-L.jpg"/>
          <p:cNvPicPr/>
          <p:nvPr/>
        </p:nvPicPr>
        <p:blipFill>
          <a:blip r:embed="rId1"/>
          <a:stretch/>
        </p:blipFill>
        <p:spPr>
          <a:xfrm>
            <a:off x="152280" y="1066680"/>
            <a:ext cx="5562720" cy="53737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553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Gill Sans MT"/>
              </a:rPr>
              <a:t>Animal viruses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 have a membranou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Gill Sans MT"/>
              </a:rPr>
              <a:t>envelop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257800" y="1066680"/>
            <a:ext cx="3657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membrane forms around exiting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icult for host immune system to detect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trovir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NA virus that uses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reverse transcriptase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R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N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ly made viral DNA inserted into chromosome of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transcribes viral DNA (=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provir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to make new virus pa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Example: HIV (Human Immunodeficiency Vir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19_08aHIVReproCycle-L.jpg"/>
          <p:cNvPicPr/>
          <p:nvPr/>
        </p:nvPicPr>
        <p:blipFill>
          <a:blip r:embed="rId1"/>
          <a:stretch/>
        </p:blipFill>
        <p:spPr>
          <a:xfrm>
            <a:off x="1752480" y="152280"/>
            <a:ext cx="7066080" cy="6583320"/>
          </a:xfrm>
          <a:prstGeom prst="rect">
            <a:avLst/>
          </a:prstGeom>
          <a:ln w="0">
            <a:noFill/>
          </a:ln>
        </p:spPr>
      </p:pic>
      <p:grpSp>
        <p:nvGrpSpPr>
          <p:cNvPr id="363" name="TextBox 4"/>
          <p:cNvGrpSpPr/>
          <p:nvPr/>
        </p:nvGrpSpPr>
        <p:grpSpPr>
          <a:xfrm>
            <a:off x="1311120" y="2865600"/>
            <a:ext cx="2479680" cy="1769760"/>
            <a:chOff x="1311120" y="2865600"/>
            <a:chExt cx="2479680" cy="1769760"/>
          </a:xfrm>
        </p:grpSpPr>
        <p:pic>
          <p:nvPicPr>
            <p:cNvPr id="364" name="TextBox 4" descr=""/>
            <p:cNvPicPr/>
            <p:nvPr/>
          </p:nvPicPr>
          <p:blipFill>
            <a:blip r:embed="rId2"/>
            <a:stretch/>
          </p:blipFill>
          <p:spPr>
            <a:xfrm>
              <a:off x="1311120" y="2865600"/>
              <a:ext cx="24796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371600" y="2895480"/>
              <a:ext cx="2362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Gill Sans MT"/>
                </a:rPr>
                <a:t>HIV = Retroviru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62720" y="9907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Gill Sans MT"/>
              </a:rPr>
              <a:t>HIV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7" name="Picture 4" descr="19_08bHIVReproCycle-L.jpg"/>
          <p:cNvPicPr/>
          <p:nvPr/>
        </p:nvPicPr>
        <p:blipFill>
          <a:blip r:embed="rId1"/>
          <a:stretch/>
        </p:blipFill>
        <p:spPr>
          <a:xfrm>
            <a:off x="304920" y="1066680"/>
            <a:ext cx="5046480" cy="4813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5029200" y="19047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4520" indent="-223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ects white blood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4520" indent="-223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HIV+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rus (DNA inserte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4520" indent="-223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AI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active viral reproduc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h. 19 Warm-up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66680" y="1112400"/>
            <a:ext cx="7391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raw the lytic/lysogenic cyc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stage of the lytic-lysogenic cycle is a virus virulent?  Temperat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5480" indent="-74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determines a host rang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Video: </a:t>
            </a:r>
            <a:r>
              <a:rPr b="0" lang="en-US" sz="4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IV Life Cycl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human vir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218960"/>
            <a:ext cx="36576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pes vir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276880" y="1218960"/>
            <a:ext cx="36576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allpo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Smallpox lesions"/>
          <p:cNvPicPr/>
          <p:nvPr/>
        </p:nvPicPr>
        <p:blipFill>
          <a:blip r:embed="rId1"/>
          <a:stretch/>
        </p:blipFill>
        <p:spPr>
          <a:xfrm>
            <a:off x="5257800" y="243828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damnatio.com/wp-content/uploads/2010/11/herpes-pictures-300x199.jpg"/>
          <p:cNvPicPr/>
          <p:nvPr/>
        </p:nvPicPr>
        <p:blipFill>
          <a:blip r:embed="rId2"/>
          <a:stretch/>
        </p:blipFill>
        <p:spPr>
          <a:xfrm>
            <a:off x="1447920" y="2219400"/>
            <a:ext cx="2743200" cy="1819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coldsoreblisters.com/images/herpes1.jpg"/>
          <p:cNvPicPr/>
          <p:nvPr/>
        </p:nvPicPr>
        <p:blipFill>
          <a:blip r:embed="rId3"/>
          <a:stretch/>
        </p:blipFill>
        <p:spPr>
          <a:xfrm>
            <a:off x="1143000" y="452268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8"/>
          <p:cNvSpPr/>
          <p:nvPr/>
        </p:nvSpPr>
        <p:spPr>
          <a:xfrm>
            <a:off x="914400" y="1839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pes Simplex Virus 1 (HSV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1066680" y="4114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pes Simplex Virus 2 (HSV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5105520" y="5562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dicated in 1979 due to worldwide vaccination campa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acci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akened virus or part of pathogen that triggers immune system respo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http://www.cdc.gov/vaccinesafety/00_images/Boy%20getting%20vaccinated.jpg"/>
          <p:cNvPicPr/>
          <p:nvPr/>
        </p:nvPicPr>
        <p:blipFill>
          <a:blip r:embed="rId1"/>
          <a:stretch/>
        </p:blipFill>
        <p:spPr>
          <a:xfrm>
            <a:off x="2362320" y="2743200"/>
            <a:ext cx="5257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19_09cInfluenza-L.jpg"/>
          <p:cNvPicPr/>
          <p:nvPr/>
        </p:nvPicPr>
        <p:blipFill>
          <a:blip r:embed="rId1"/>
          <a:stretch/>
        </p:blipFill>
        <p:spPr>
          <a:xfrm>
            <a:off x="4876920" y="3962520"/>
            <a:ext cx="3978000" cy="26701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198360"/>
            <a:ext cx="86295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Gill Sans MT"/>
              </a:rPr>
              <a:t>Emerging viruses</a:t>
            </a:r>
            <a:r>
              <a:rPr b="1" lang="en-US" sz="3400" spc="-1" strike="noStrike">
                <a:solidFill>
                  <a:srgbClr val="0000ff"/>
                </a:solidFill>
                <a:latin typeface="Gill Sans MT"/>
              </a:rPr>
              <a:t> = mutation of existing viruse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5" name="Picture 4" descr="19_09aInfluenza-L.jpg"/>
          <p:cNvPicPr/>
          <p:nvPr/>
        </p:nvPicPr>
        <p:blipFill>
          <a:blip r:embed="rId2"/>
          <a:stretch/>
        </p:blipFill>
        <p:spPr>
          <a:xfrm>
            <a:off x="228600" y="2286000"/>
            <a:ext cx="3100320" cy="4395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19_09bInfluenza-L.jpg"/>
          <p:cNvPicPr/>
          <p:nvPr/>
        </p:nvPicPr>
        <p:blipFill>
          <a:blip r:embed="rId3"/>
          <a:stretch/>
        </p:blipFill>
        <p:spPr>
          <a:xfrm>
            <a:off x="2743200" y="1219320"/>
            <a:ext cx="30211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roi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43000" y="1523520"/>
            <a:ext cx="4508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all, circular RNA molecules that infect pl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use errors in regulatory systems that control plant grow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coconut palms in Philipp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4" descr="http://www.biologie.uni-hamburg.de/bzf/mppg/agviro2.jpg"/>
          <p:cNvPicPr/>
          <p:nvPr/>
        </p:nvPicPr>
        <p:blipFill>
          <a:blip r:embed="rId1"/>
          <a:stretch/>
        </p:blipFill>
        <p:spPr>
          <a:xfrm>
            <a:off x="5867280" y="304920"/>
            <a:ext cx="2629080" cy="1977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http://www.forestryimages.org/images/768x512/0656009.jpg"/>
          <p:cNvPicPr/>
          <p:nvPr/>
        </p:nvPicPr>
        <p:blipFill>
          <a:blip r:embed="rId2"/>
          <a:stretch/>
        </p:blipFill>
        <p:spPr>
          <a:xfrm>
            <a:off x="5867280" y="2590920"/>
            <a:ext cx="2641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066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sfolded, infecti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at cause misfolding of normal protei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mad cow disease (BSE),Creutzfeldt-Jakob disease (humans), scrapie (shee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3" name="Picture 3" descr="19_11PrionPropagation-L.jpg"/>
          <p:cNvPicPr/>
          <p:nvPr/>
        </p:nvPicPr>
        <p:blipFill>
          <a:blip r:embed="rId1"/>
          <a:stretch/>
        </p:blipFill>
        <p:spPr>
          <a:xfrm>
            <a:off x="380880" y="3352680"/>
            <a:ext cx="854712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Diseases caused by prion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ons act slowly – incubation period of at least 10 years before symptoms devel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ons are virtually indestructible (cannot be denatured by heat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known cure for prion dise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2" descr="http://www.nlm.nih.gov/medlineplus/ency/images/ency/fullsize/17146.jpg"/>
          <p:cNvPicPr/>
          <p:nvPr/>
        </p:nvPicPr>
        <p:blipFill>
          <a:blip r:embed="rId1"/>
          <a:stretch/>
        </p:blipFill>
        <p:spPr>
          <a:xfrm>
            <a:off x="1066680" y="365760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eeklyecho.com/blog/media/1/20060520-kuru.jpg"/>
          <p:cNvPicPr/>
          <p:nvPr/>
        </p:nvPicPr>
        <p:blipFill>
          <a:blip r:embed="rId2"/>
          <a:stretch/>
        </p:blipFill>
        <p:spPr>
          <a:xfrm>
            <a:off x="5486400" y="3722760"/>
            <a:ext cx="26668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r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apter 1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Picture 3" descr="19_01T4PhageEColi-L.jpg"/>
          <p:cNvPicPr/>
          <p:nvPr/>
        </p:nvPicPr>
        <p:blipFill>
          <a:blip r:embed="rId1"/>
          <a:stretch/>
        </p:blipFill>
        <p:spPr>
          <a:xfrm>
            <a:off x="2651040" y="2511360"/>
            <a:ext cx="5024520" cy="76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you must know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mponents of a vir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ifferences between lytic and lysogenic cyc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72314"/>
                </a:solidFill>
                <a:latin typeface="Gill Sans MT"/>
              </a:rPr>
              <a:t>Bacteria vs. Viruses</a:t>
            </a:r>
            <a:endParaRPr b="0" lang="en-US" sz="4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160" y="114264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8452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karyotic c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are free-living (some parasiti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atively larg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sed to kill bacte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64160" y="178452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a living cell (genes packaged in protein shel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acellular para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/1000 size of bacte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Vaccine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to prevent viral inf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tiviral treat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http://healthmediconline.com/wp-content/uploads/2011/06/e-coli-streptococci-300x162.jpg"/>
          <p:cNvPicPr/>
          <p:nvPr/>
        </p:nvPicPr>
        <p:blipFill>
          <a:blip r:embed="rId1"/>
          <a:stretch/>
        </p:blipFill>
        <p:spPr>
          <a:xfrm>
            <a:off x="990720" y="5010120"/>
            <a:ext cx="2857320" cy="154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Modern Medicine Image Gallery"/>
          <p:cNvPicPr/>
          <p:nvPr/>
        </p:nvPicPr>
        <p:blipFill>
          <a:blip r:embed="rId2"/>
          <a:stretch/>
        </p:blipFill>
        <p:spPr>
          <a:xfrm>
            <a:off x="5562720" y="49528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r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980720" y="14475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y small (&lt;ribosom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onents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nucleic ac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aps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Nucleic ac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DNA or RNA (double or single-strande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Gill Sans MT"/>
              </a:rPr>
              <a:t>Caps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protein she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me viruses also have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Gill Sans MT"/>
              </a:rPr>
              <a:t>viral envelop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at surround caps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m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host ran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g. human cold virus infects upper respiratory trac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roduce within host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http://drugmega.com/wp-content/uploads/2011/09/0983243.jpg"/>
          <p:cNvPicPr/>
          <p:nvPr/>
        </p:nvPicPr>
        <p:blipFill>
          <a:blip r:embed="rId1"/>
          <a:stretch/>
        </p:blipFill>
        <p:spPr>
          <a:xfrm>
            <a:off x="228600" y="28954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37" name="Down Arrow 4"/>
          <p:cNvSpPr/>
          <p:nvPr/>
        </p:nvSpPr>
        <p:spPr>
          <a:xfrm rot="2880000">
            <a:off x="1864080" y="2757960"/>
            <a:ext cx="233280" cy="122544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own Arrow 5"/>
          <p:cNvSpPr/>
          <p:nvPr/>
        </p:nvSpPr>
        <p:spPr>
          <a:xfrm rot="4440000">
            <a:off x="2160360" y="3562560"/>
            <a:ext cx="174600" cy="6634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own Arrow 6"/>
          <p:cNvSpPr/>
          <p:nvPr/>
        </p:nvSpPr>
        <p:spPr>
          <a:xfrm rot="6300000">
            <a:off x="2140920" y="4217040"/>
            <a:ext cx="187200" cy="789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19_03_ViralStructure-L.jpg"/>
          <p:cNvPicPr/>
          <p:nvPr/>
        </p:nvPicPr>
        <p:blipFill>
          <a:blip r:embed="rId1"/>
          <a:stretch/>
        </p:blipFill>
        <p:spPr>
          <a:xfrm>
            <a:off x="155520" y="228600"/>
            <a:ext cx="8912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19_T01aAnimalViruses-L.jpg"/>
          <p:cNvPicPr/>
          <p:nvPr/>
        </p:nvPicPr>
        <p:blipFill>
          <a:blip r:embed="rId1"/>
          <a:stretch/>
        </p:blipFill>
        <p:spPr>
          <a:xfrm>
            <a:off x="1427040" y="136440"/>
            <a:ext cx="62899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19_T01bAnimalViruses-L.jpg"/>
          <p:cNvPicPr/>
          <p:nvPr/>
        </p:nvPicPr>
        <p:blipFill>
          <a:blip r:embed="rId1"/>
          <a:stretch/>
        </p:blipFill>
        <p:spPr>
          <a:xfrm>
            <a:off x="2077920" y="0"/>
            <a:ext cx="519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23:08:17Z</dcterms:created>
  <dc:creator>Chris Nancy Chou</dc:creator>
  <dc:description/>
  <dc:language>en-US</dc:language>
  <cp:lastModifiedBy>local</cp:lastModifiedBy>
  <dcterms:modified xsi:type="dcterms:W3CDTF">2014-01-16T16:04:32Z</dcterms:modified>
  <cp:revision>19</cp:revision>
  <dc:subject/>
  <dc:title>Viruses</dc:title>
</cp:coreProperties>
</file>